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E19-FFDB-4479-8FE9-674BB83B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26D-AC9C-4A67-842A-BF720329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909B-E082-4E3C-B781-D63F8AA1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B3E06-2AFE-498F-96B3-0C9DD249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EF0C0-1E05-4403-BEAC-231B6AD8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1BBAA-9F61-40E2-9CDD-6CA0CB5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D8FB7-7EB1-4FE6-998D-229DD25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1A0DD-F404-4D51-AC6F-91DF2DA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953EB-8FF0-43A2-BD8D-E19B5454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DF7D9-3F5D-4FF4-A329-0A2F4594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9440F-B7B2-463F-8485-4D599F20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9D2-BB32-46C5-86BE-0803D9E2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7A7-7494-400A-8D5C-89F66FB9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4D57-9BF5-4DA1-891A-E156BEA7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1A6C-8F50-4771-8667-A7AB8278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D8AB-F929-4717-8342-C0453BA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89F3-1404-4DA2-88DA-41123954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6B0D-8305-4304-8F82-1116E359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CD07-C884-40B9-BD66-D40B35B5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CF86-3360-45DE-B881-BD91BD79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4AA-143C-476B-9E28-2CDB4DC2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3CB6-4D33-4574-BAB0-15D19FDB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1086-E656-4A0C-AD66-64D2B80E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CDC7-4586-44B3-B5FA-F21153C5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71C4-DC71-43B8-ACA1-21DB8266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8A54-F3EE-4795-829C-CF2736B1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225B-2782-40EB-932E-77DD887A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04E2E-A942-4305-98F8-3769570B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48F9-B545-4FEC-8214-C58CD2E1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B541-52B4-4D99-9B51-ABD41D62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972F-23DE-4A84-B90E-F6380331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C3E-3035-46D0-90C0-E3CB4550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5ACD-19C4-47AF-B006-8D25D05E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4AFD-2FFD-4661-AE53-43A13CE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FB597-9CDF-48F5-B823-2E097C1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BEEF-0D32-4660-9009-1DC12AB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6125-4FE2-49F5-A973-9630EE12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A37F-22F6-441A-B975-24209EA0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E6B8-E82E-4630-B685-FF5AD265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DBDC-345E-4D7E-8EFB-7C12D5BC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BF6F-53BC-4E97-A5A2-77105ED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667B-068F-4A02-A47A-C327AC60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8AC-A674-4FC5-9E2F-3F5351C4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A0FE1-9588-46E0-A77B-C37D2CCE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D498-E9ED-4EB0-A09A-8079F767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8A2A3-5AAE-4782-924E-CE91963F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EB474-47D8-45DE-ABA4-273D1E1B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823F-8012-4BDA-A3C3-058C191C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4757A-403C-4B4A-8E57-8A18788C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FE43-7C66-4534-8127-08681934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26F0-AB06-411A-8EC5-2F1AAEC9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5E3E4-B403-438B-A102-D11CCF0E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A3DB9-90A1-4D8D-96C7-556D7A63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2B7-D21A-49CF-8232-034F374F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653F4-7D1C-4511-A115-4451B6ED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8DF74-B683-45E0-8C54-759C7AB4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A344-9B97-4784-BCD5-EC54C3D8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18A78-2BE4-44BF-A833-94FAE5AF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C59C4-E8D2-4E3F-9180-B8133CD7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06A3C-6EB1-48DD-A208-5381F472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70B2-5406-46ED-9CB8-CE549A2F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EB476-3AFC-473B-A4BB-FDCFB14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BD7D-737D-4F47-AFFE-EDFA327E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7C2AA-07CD-4118-832E-D3A6D176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C1E-9D94-4A67-AE3F-6E1981B0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43B9-3026-434E-8B87-66A95BE8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0955F-6A4C-4FDC-8FCA-A07CC179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592F3-BD0C-40ED-B840-9B5472AB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151E4-EBD2-4F23-9D98-2F3520F5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C6FCB-A1FB-4032-8DD1-3686B7A4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AF8A8-2E5B-4884-85E7-54223F8E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BB180-7545-440C-906F-E59EFBC2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BF3E7-6164-40BB-BD85-1D4C084E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F58A2-5A0C-44B1-BC0F-3949094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91D4-19ED-4A4A-AB22-45CB79F4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C1B-B548-4262-AA0F-781C39FF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D526D-F2BF-4D73-A5EF-B2210B6B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FD516-A4B3-4C35-A7CB-9FA0CCAA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E55B-2D48-4264-A391-646459AC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73DAF-DDEB-409D-8727-2B6A44AB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777FA-DEBB-45BB-B615-6F71D719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6460-8DD5-4DE0-9E3B-5CAD408A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95DEC-2946-4694-976F-F201E845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388CD-8C9F-4EAB-B567-CF759063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2F97-0FF7-4EE1-9C44-87878744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8CAAD-16F7-4469-A670-191AA9BD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685-0228-4908-A7A4-2B47674E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C7F22-0089-48B1-B703-BC192DEB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2376-C950-4DD6-A8C7-09F7E81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449F7-A82D-42FD-B294-675582C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991C0-6646-4110-9ECA-02D7BE76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6B514-FD81-40F9-B45F-61C02152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2DFBF-7DFB-4FAC-A609-370425DF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90DEA-9811-4E86-B758-0F1667B4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CC7EC-01E3-45D6-BD10-9EDAE3A5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BFF7F-8619-4AA8-8BB2-7701B623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0AE33-C749-4CBF-920B-65DED581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9B8-12E9-466A-B12D-D1C98651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4ACE3-3F6D-496C-9E1B-9A48859C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CD3B6-D440-453B-8D5B-E96DC16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8ABC-91CF-4B0A-822A-3199E4A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D74B-39B2-4C86-BB09-96B918E8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FD39C-1187-44AA-8DA1-48F91DB0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EECB8-108A-4D34-AAEF-A62EA932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69306-373E-4492-BD80-09BB6AA5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B410E-785E-41F1-9C62-BA2684A3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843CB-4CF4-4C97-AD04-FD7E27E5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7FC70-3760-481C-BCAA-334BDF56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BB6E-BF92-49BB-B911-AB462FAAB6F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2C06-7EB9-47DA-A220-B696AE94E1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0C82-8B42-4D4A-9346-32B520AB67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F7C8-0044-40F5-8FE8-74B7B4FFA6F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99B8-26FA-4AB1-8CBF-CDD5AC735D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53C8-7F71-42C4-8E30-E17242492B9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06F5-0B76-4789-AEBC-1CCF12913C1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B306-5B50-439E-94CC-A5ABA679756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13A6-7C13-47FA-828B-83D5380CDA5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24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Не говори, что делал, 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а говори, что сделал.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ddd2b1"/>
                </a:solidFill>
                <a:latin typeface="Franklin Gothic Book"/>
              </a:rPr>
              <a:t>(пословица)</a:t>
            </a:r>
            <a:endParaRPr b="0" lang="en-US" sz="48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всем  удач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00120" y="214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овторение основных 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28760" y="7142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…,            которая обращает каждое уравнение системы в …       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…                  или доказать, что…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…; система не имеет решений, если прямые …        ; если прямые …                    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500120" y="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ове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428760" y="42876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 значений перем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обращает каждое уравнение системы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е ее реш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доказать, чт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й н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я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сек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система не имеет решений,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лл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впад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рафически, способом перебора (подбора), подстановки, слож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560" y="1071360"/>
            <a:ext cx="41907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4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8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х = 0,16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х - 7 =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(3 – х) = 9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–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2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7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у = -0,2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у + 1 = 2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3(у – 15) = 0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071720"/>
            <a:ext cx="419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4 –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8 – 2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0,04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4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1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2 +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7 – 4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0,0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1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се правильно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8-9 правильных ответов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7-6-5  правильных ответов –   </a:t>
            </a:r>
            <a:r>
              <a:rPr b="0" i="1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  остальных случаях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1357200" y="714240"/>
            <a:ext cx="6786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42920" y="42876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 5x +2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Левая фигурная скобка 2"/>
          <p:cNvSpPr/>
          <p:nvPr/>
        </p:nvSpPr>
        <p:spPr>
          <a:xfrm>
            <a:off x="285840" y="500040"/>
            <a:ext cx="285840" cy="785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785880"/>
              <a:gd name="textAreaBottom" fmla="*/ 7786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071880" y="42876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- 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5357880" y="5000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2 (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 – 3x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)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5"/>
          <p:cNvSpPr/>
          <p:nvPr/>
        </p:nvSpPr>
        <p:spPr>
          <a:xfrm>
            <a:off x="3929040" y="500040"/>
            <a:ext cx="107172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 стрелкой 7"/>
          <p:cNvCxnSpPr/>
          <p:nvPr/>
        </p:nvCxnSpPr>
        <p:spPr>
          <a:xfrm flipH="1">
            <a:off x="2571120" y="857160"/>
            <a:ext cx="1429560" cy="28656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3" name="Овал 8"/>
          <p:cNvSpPr/>
          <p:nvPr/>
        </p:nvSpPr>
        <p:spPr>
          <a:xfrm>
            <a:off x="1643040" y="928800"/>
            <a:ext cx="357120" cy="50004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9"/>
          <p:cNvSpPr/>
          <p:nvPr/>
        </p:nvSpPr>
        <p:spPr>
          <a:xfrm>
            <a:off x="5357880" y="642960"/>
            <a:ext cx="214200" cy="71424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Прямая со стрелкой 13"/>
          <p:cNvCxnSpPr>
            <a:stCxn id="421" idx="5"/>
          </p:cNvCxnSpPr>
          <p:nvPr/>
        </p:nvCxnSpPr>
        <p:spPr>
          <a:xfrm>
            <a:off x="4843440" y="864720"/>
            <a:ext cx="1944000" cy="13572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6" name="Овал 14"/>
          <p:cNvSpPr/>
          <p:nvPr/>
        </p:nvSpPr>
        <p:spPr>
          <a:xfrm>
            <a:off x="6786720" y="1000080"/>
            <a:ext cx="128556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1000080" y="200016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14 – 6x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- 6x = 3 –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11x = 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2"/>
          <p:cNvSpPr/>
          <p:nvPr/>
        </p:nvSpPr>
        <p:spPr>
          <a:xfrm>
            <a:off x="928800" y="3357720"/>
            <a:ext cx="1071360" cy="42840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лилиния 25"/>
          <p:cNvSpPr/>
          <p:nvPr/>
        </p:nvSpPr>
        <p:spPr>
          <a:xfrm>
            <a:off x="2019240" y="939960"/>
            <a:ext cx="2703600" cy="2616120"/>
          </a:xfrm>
          <a:prstGeom prst="pie">
            <a:avLst/>
          </a:pr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 стрелкой 27"/>
          <p:cNvCxnSpPr/>
          <p:nvPr/>
        </p:nvCxnSpPr>
        <p:spPr>
          <a:xfrm flipH="1" flipV="1">
            <a:off x="4571640" y="928080"/>
            <a:ext cx="72000" cy="2149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31" name="Прямая со стрелкой 29"/>
          <p:cNvCxnSpPr/>
          <p:nvPr/>
        </p:nvCxnSpPr>
        <p:spPr>
          <a:xfrm>
            <a:off x="4713840" y="928440"/>
            <a:ext cx="143640" cy="285804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32" name="TextBox 30"/>
          <p:cNvSpPr/>
          <p:nvPr/>
        </p:nvSpPr>
        <p:spPr>
          <a:xfrm>
            <a:off x="3571920" y="38577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7 – 3•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785880" y="485784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твет :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Решением системы является пара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x = 1;  y = 4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(1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4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714240" y="0"/>
            <a:ext cx="7858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и решении системы двух линейных уравнений с двумя переменными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ыразить из какого-нибудь уравнения одну переменную через другу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подставить в другое уравнение системы вместо этой переменной полученное вы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решить получившееся уравнение с одн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найти соответствующее значение втор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2"/>
          <p:cNvSpPr/>
          <p:nvPr/>
        </p:nvSpPr>
        <p:spPr>
          <a:xfrm>
            <a:off x="500040" y="1143000"/>
            <a:ext cx="8358120" cy="4786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45:06Z</dcterms:created>
  <dc:creator>Алёна</dc:creator>
  <dc:description/>
  <dc:language>en-US</dc:language>
  <cp:lastModifiedBy>iLvit</cp:lastModifiedBy>
  <dcterms:modified xsi:type="dcterms:W3CDTF">2012-04-11T17:50:32Z</dcterms:modified>
  <cp:revision>49</cp:revision>
  <dc:subject/>
  <dc:title>Слайд 1</dc:title>
</cp:coreProperties>
</file>